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D08E-E5CD-4CCC-8084-1512F4F3D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ba40"/>
              </a:solidFill>
              <a:latin typeface="Franklin Gothic 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cd76"/>
              </a:solidFill>
              <a:latin typeface="Arial Rounded MT Bol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cd76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9BED-074E-4345-8359-00A6793A1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ba40"/>
              </a:solidFill>
              <a:latin typeface="Franklin Gothic 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cd76"/>
              </a:solidFill>
              <a:latin typeface="Arial Rounded MT Bol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cd76"/>
              </a:solidFill>
              <a:latin typeface="Arial Rounded MT Bol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cd76"/>
              </a:solidFill>
              <a:latin typeface="Arial Rounded MT Bol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cd76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9284-6DDC-4F86-972C-6A99687A6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ba40"/>
              </a:solidFill>
              <a:latin typeface="Franklin Gothic Boo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cd76"/>
              </a:solidFill>
              <a:latin typeface="Arial Rounded MT Bol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cd76"/>
              </a:solidFill>
              <a:latin typeface="Arial Rounded MT Bol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cd76"/>
              </a:solidFill>
              <a:latin typeface="Arial Rounded MT Bol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cd76"/>
              </a:solidFill>
              <a:latin typeface="Arial Rounded MT Bol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cd76"/>
              </a:solidFill>
              <a:latin typeface="Arial Rounded MT Bol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cd76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3ACD-979D-4DFA-9B03-E960119EA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ba40"/>
              </a:solidFill>
              <a:latin typeface="Franklin Gothic Boo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cd76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F667-72B6-4604-8966-4779D98A4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ba40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cd76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877E-4F86-4E87-B8D5-37BD1FF33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ba40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cd76"/>
              </a:solidFill>
              <a:latin typeface="Arial Rounded MT Bol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cd76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D7DE-872E-4DC5-AAFE-03D78AAA1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ba4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40CD-4DDE-43C4-B678-CD5AB5951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cd76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6187-FC3A-4F1B-8FCA-8CBD06B83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ba40"/>
              </a:solidFill>
              <a:latin typeface="Franklin Gothic Boo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cd76"/>
              </a:solidFill>
              <a:latin typeface="Arial Rounded MT Bol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cd76"/>
              </a:solidFill>
              <a:latin typeface="Arial Rounded MT Bol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cd76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5CA1-AEBD-4CB1-A967-8D861DDFA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ba40"/>
              </a:solidFill>
              <a:latin typeface="Franklin Gothic 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cd76"/>
              </a:solidFill>
              <a:latin typeface="Arial Rounded MT Bol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cd76"/>
              </a:solidFill>
              <a:latin typeface="Arial Rounded MT Bol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cd76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DB2B-A20C-4516-810D-6956FD487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ba40"/>
              </a:solidFill>
              <a:latin typeface="Franklin Gothic 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cd76"/>
              </a:solidFill>
              <a:latin typeface="Arial Rounded MT Bol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cd76"/>
              </a:solidFill>
              <a:latin typeface="Arial Rounded MT Bol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cd76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5038-9151-4CEF-AD65-5FE44E7A9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Sky 2.jpg"/>
          <p:cNvPicPr/>
          <p:nvPr/>
        </p:nvPicPr>
        <p:blipFill>
          <a:blip r:embed="rId2"/>
          <a:srcRect l="0" t="7463" r="0" b="393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5FA31-A648-45A9-A53B-FD71AE7EB829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3" descr="calm_sea2.jpg"/>
          <p:cNvPicPr/>
          <p:nvPr/>
        </p:nvPicPr>
        <p:blipFill>
          <a:blip r:embed="rId3"/>
          <a:srcRect l="0" t="0" r="7162" b="4777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c1c1c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 Rounded MT Bold"/>
              </a:rPr>
              <a:t>Praise is rising;</a:t>
            </a:r>
            <a:endParaRPr b="0" lang="en-US" sz="3200" spc="-1" strike="noStrike">
              <a:solidFill>
                <a:srgbClr val="fecd76"/>
              </a:solidFill>
              <a:latin typeface="Arial Rounded MT Bold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 Rounded MT Bold"/>
              </a:rPr>
              <a:t>Eyes are turning to You.</a:t>
            </a:r>
            <a:endParaRPr b="0" lang="en-US" sz="3200" spc="-1" strike="noStrike">
              <a:solidFill>
                <a:srgbClr val="fecd76"/>
              </a:solidFill>
              <a:latin typeface="Arial Rounded MT Bold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 Rounded MT Bold"/>
              </a:rPr>
              <a:t>We turn to You.</a:t>
            </a:r>
            <a:endParaRPr b="0" lang="en-US" sz="3200" spc="-1" strike="noStrike">
              <a:solidFill>
                <a:srgbClr val="fecd76"/>
              </a:solidFill>
              <a:latin typeface="Arial Rounded MT Bold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cd76"/>
              </a:solidFill>
              <a:latin typeface="Arial Rounded MT Bold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 Rounded MT Bold"/>
              </a:rPr>
              <a:t>Hope is stirring;</a:t>
            </a:r>
            <a:endParaRPr b="0" lang="en-US" sz="3200" spc="-1" strike="noStrike">
              <a:solidFill>
                <a:srgbClr val="fecd76"/>
              </a:solidFill>
              <a:latin typeface="Arial Rounded MT Bold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 Rounded MT Bold"/>
              </a:rPr>
              <a:t>Hearts are yearning for You.</a:t>
            </a:r>
            <a:endParaRPr b="0" lang="en-US" sz="3200" spc="-1" strike="noStrike">
              <a:solidFill>
                <a:srgbClr val="fecd76"/>
              </a:solidFill>
              <a:latin typeface="Arial Rounded MT Bold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 Rounded MT Bold"/>
              </a:rPr>
              <a:t>We long for You.</a:t>
            </a:r>
            <a:endParaRPr b="0" lang="en-US" sz="3200" spc="-1" strike="noStrike">
              <a:solidFill>
                <a:srgbClr val="fecd76"/>
              </a:solidFill>
              <a:latin typeface="Arial Rounded MT Bold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2438280" y="685800"/>
            <a:ext cx="40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  <a:ea typeface="Arial"/>
              </a:rPr>
              <a:t>HOSAN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c1c1c"/>
            </a:outerShdw>
          </a:effectLst>
        </p:spPr>
        <p:txBody>
          <a:bodyPr lIns="90000" rIns="90000" tIns="46800" bIns="46800" anchor="ctr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 Rounded MT Bold"/>
              </a:rPr>
              <a:t>‘</a:t>
            </a:r>
            <a:r>
              <a:rPr b="1" lang="en-US" sz="3200" spc="-1" strike="noStrike">
                <a:solidFill>
                  <a:srgbClr val="800080"/>
                </a:solidFill>
                <a:latin typeface="Arial Rounded MT Bold"/>
              </a:rPr>
              <a:t>cause when we see You,</a:t>
            </a:r>
            <a:endParaRPr b="0" lang="en-US" sz="3200" spc="-1" strike="noStrike">
              <a:solidFill>
                <a:srgbClr val="fecd76"/>
              </a:solidFill>
              <a:latin typeface="Arial Rounded MT Bold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 Rounded MT Bold"/>
              </a:rPr>
              <a:t>We find strength to face the day.</a:t>
            </a:r>
            <a:endParaRPr b="0" lang="en-US" sz="3200" spc="-1" strike="noStrike">
              <a:solidFill>
                <a:srgbClr val="fecd76"/>
              </a:solidFill>
              <a:latin typeface="Arial Rounded MT Bold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cd76"/>
              </a:solidFill>
              <a:latin typeface="Arial Rounded MT Bold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 Rounded MT Bold"/>
              </a:rPr>
              <a:t>And in Your presence,</a:t>
            </a:r>
            <a:endParaRPr b="0" lang="en-US" sz="3200" spc="-1" strike="noStrike">
              <a:solidFill>
                <a:srgbClr val="fecd76"/>
              </a:solidFill>
              <a:latin typeface="Arial Rounded MT Bold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 Rounded MT Bold"/>
              </a:rPr>
              <a:t>All our fears are washed away.</a:t>
            </a:r>
            <a:endParaRPr b="0" lang="en-US" sz="3200" spc="-1" strike="noStrike">
              <a:solidFill>
                <a:srgbClr val="fecd76"/>
              </a:solidFill>
              <a:latin typeface="Arial Rounded MT Bold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 Rounded MT Bold"/>
              </a:rPr>
              <a:t>Washed away.</a:t>
            </a:r>
            <a:endParaRPr b="0" lang="en-US" sz="3200" spc="-1" strike="noStrike">
              <a:solidFill>
                <a:srgbClr val="fecd76"/>
              </a:solidFill>
              <a:latin typeface="Arial Rounded MT Bol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c1c1c"/>
            </a:outerShdw>
          </a:effectLst>
        </p:spPr>
        <p:txBody>
          <a:bodyPr lIns="90000" rIns="90000" tIns="46800" bIns="46800" anchor="ctr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 Rounded MT Bold"/>
              </a:rPr>
              <a:t>Hosanna, Hosanna!</a:t>
            </a:r>
            <a:endParaRPr b="0" lang="en-US" sz="3200" spc="-1" strike="noStrike">
              <a:solidFill>
                <a:srgbClr val="fecd76"/>
              </a:solidFill>
              <a:latin typeface="Arial Rounded MT Bold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 Rounded MT Bold"/>
              </a:rPr>
              <a:t>You are the God who saves us</a:t>
            </a:r>
            <a:endParaRPr b="0" lang="en-US" sz="3200" spc="-1" strike="noStrike">
              <a:solidFill>
                <a:srgbClr val="fecd76"/>
              </a:solidFill>
              <a:latin typeface="Arial Rounded MT Bold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 Rounded MT Bold"/>
              </a:rPr>
              <a:t>Worthy of all our praises.</a:t>
            </a:r>
            <a:endParaRPr b="0" lang="en-US" sz="3200" spc="-1" strike="noStrike">
              <a:solidFill>
                <a:srgbClr val="fecd76"/>
              </a:solidFill>
              <a:latin typeface="Arial Rounded MT Bol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c1c1c"/>
            </a:outerShdw>
          </a:effectLst>
        </p:spPr>
        <p:txBody>
          <a:bodyPr lIns="90000" rIns="90000" tIns="46800" bIns="46800" anchor="ctr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 Rounded MT Bold"/>
              </a:rPr>
              <a:t>Hear the sound of</a:t>
            </a:r>
            <a:endParaRPr b="0" lang="en-US" sz="3200" spc="-1" strike="noStrike">
              <a:solidFill>
                <a:srgbClr val="fecd76"/>
              </a:solidFill>
              <a:latin typeface="Arial Rounded MT Bold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 Rounded MT Bold"/>
              </a:rPr>
              <a:t>Hearts returning to You.</a:t>
            </a:r>
            <a:endParaRPr b="0" lang="en-US" sz="3200" spc="-1" strike="noStrike">
              <a:solidFill>
                <a:srgbClr val="fecd76"/>
              </a:solidFill>
              <a:latin typeface="Arial Rounded MT Bold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 Rounded MT Bold"/>
              </a:rPr>
              <a:t>We turn to You.</a:t>
            </a:r>
            <a:endParaRPr b="0" lang="en-US" sz="3200" spc="-1" strike="noStrike">
              <a:solidFill>
                <a:srgbClr val="fecd76"/>
              </a:solidFill>
              <a:latin typeface="Arial Rounded MT Bold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cd76"/>
              </a:solidFill>
              <a:latin typeface="Arial Rounded MT Bold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 Rounded MT Bold"/>
              </a:rPr>
              <a:t>In Your kingdom,</a:t>
            </a:r>
            <a:endParaRPr b="0" lang="en-US" sz="3200" spc="-1" strike="noStrike">
              <a:solidFill>
                <a:srgbClr val="fecd76"/>
              </a:solidFill>
              <a:latin typeface="Arial Rounded MT Bold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 Rounded MT Bold"/>
              </a:rPr>
              <a:t>Broken lives are made new.</a:t>
            </a:r>
            <a:endParaRPr b="0" lang="en-US" sz="3200" spc="-1" strike="noStrike">
              <a:solidFill>
                <a:srgbClr val="fecd76"/>
              </a:solidFill>
              <a:latin typeface="Arial Rounded MT Bold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 Rounded MT Bold"/>
              </a:rPr>
              <a:t>You make us new.</a:t>
            </a:r>
            <a:endParaRPr b="0" lang="en-US" sz="3200" spc="-1" strike="noStrike">
              <a:solidFill>
                <a:srgbClr val="fecd76"/>
              </a:solidFill>
              <a:latin typeface="Arial Rounded MT Bol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c1c1c"/>
            </a:outerShdw>
          </a:effectLst>
        </p:spPr>
        <p:txBody>
          <a:bodyPr lIns="90000" rIns="90000" tIns="46800" bIns="46800" anchor="ctr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 Rounded MT Bold"/>
              </a:rPr>
              <a:t>‘</a:t>
            </a:r>
            <a:r>
              <a:rPr b="1" lang="en-US" sz="3200" spc="-1" strike="noStrike">
                <a:solidFill>
                  <a:srgbClr val="800080"/>
                </a:solidFill>
                <a:latin typeface="Arial Rounded MT Bold"/>
              </a:rPr>
              <a:t>cause when we see You,</a:t>
            </a:r>
            <a:endParaRPr b="0" lang="en-US" sz="3200" spc="-1" strike="noStrike">
              <a:solidFill>
                <a:srgbClr val="fecd76"/>
              </a:solidFill>
              <a:latin typeface="Arial Rounded MT Bold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 Rounded MT Bold"/>
              </a:rPr>
              <a:t>We find strength to face the day.</a:t>
            </a:r>
            <a:endParaRPr b="0" lang="en-US" sz="3200" spc="-1" strike="noStrike">
              <a:solidFill>
                <a:srgbClr val="fecd76"/>
              </a:solidFill>
              <a:latin typeface="Arial Rounded MT Bold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cd76"/>
              </a:solidFill>
              <a:latin typeface="Arial Rounded MT Bold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 Rounded MT Bold"/>
              </a:rPr>
              <a:t>And in Your presence,</a:t>
            </a:r>
            <a:endParaRPr b="0" lang="en-US" sz="3200" spc="-1" strike="noStrike">
              <a:solidFill>
                <a:srgbClr val="fecd76"/>
              </a:solidFill>
              <a:latin typeface="Arial Rounded MT Bold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 Rounded MT Bold"/>
              </a:rPr>
              <a:t>All our fears are washed away.</a:t>
            </a:r>
            <a:endParaRPr b="0" lang="en-US" sz="3200" spc="-1" strike="noStrike">
              <a:solidFill>
                <a:srgbClr val="fecd76"/>
              </a:solidFill>
              <a:latin typeface="Arial Rounded MT Bold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 Rounded MT Bold"/>
              </a:rPr>
              <a:t>Washed away.</a:t>
            </a:r>
            <a:endParaRPr b="0" lang="en-US" sz="3200" spc="-1" strike="noStrike">
              <a:solidFill>
                <a:srgbClr val="fecd76"/>
              </a:solidFill>
              <a:latin typeface="Arial Rounded MT Bold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c1c1c"/>
            </a:outerShdw>
          </a:effectLst>
        </p:spPr>
        <p:txBody>
          <a:bodyPr lIns="90000" rIns="90000" tIns="46800" bIns="46800" anchor="ctr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 Rounded MT Bold"/>
              </a:rPr>
              <a:t>Hosanna, Hosanna!</a:t>
            </a:r>
            <a:endParaRPr b="0" lang="en-US" sz="3200" spc="-1" strike="noStrike">
              <a:solidFill>
                <a:srgbClr val="fecd76"/>
              </a:solidFill>
              <a:latin typeface="Arial Rounded MT Bold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 Rounded MT Bold"/>
              </a:rPr>
              <a:t>You are the God who saves us</a:t>
            </a:r>
            <a:endParaRPr b="0" lang="en-US" sz="3200" spc="-1" strike="noStrike">
              <a:solidFill>
                <a:srgbClr val="fecd76"/>
              </a:solidFill>
              <a:latin typeface="Arial Rounded MT Bold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 Rounded MT Bold"/>
              </a:rPr>
              <a:t>Worthy of all our praises.</a:t>
            </a:r>
            <a:endParaRPr b="0" lang="en-US" sz="3200" spc="-1" strike="noStrike">
              <a:solidFill>
                <a:srgbClr val="fecd76"/>
              </a:solidFill>
              <a:latin typeface="Arial Rounded MT Bold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cd76"/>
              </a:solidFill>
              <a:latin typeface="Arial Rounded MT Bold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 Rounded MT Bold"/>
              </a:rPr>
              <a:t>Hosanna, Hosanna!</a:t>
            </a:r>
            <a:endParaRPr b="0" lang="en-US" sz="3200" spc="-1" strike="noStrike">
              <a:solidFill>
                <a:srgbClr val="fecd76"/>
              </a:solidFill>
              <a:latin typeface="Arial Rounded MT Bold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 Rounded MT Bold"/>
              </a:rPr>
              <a:t>Come have Your way among us.</a:t>
            </a:r>
            <a:endParaRPr b="0" lang="en-US" sz="3200" spc="-1" strike="noStrike">
              <a:solidFill>
                <a:srgbClr val="fecd76"/>
              </a:solidFill>
              <a:latin typeface="Arial Rounded MT Bold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 Rounded MT Bold"/>
              </a:rPr>
              <a:t>We welcome you here, Lord Jesus.</a:t>
            </a:r>
            <a:endParaRPr b="0" lang="en-US" sz="3200" spc="-1" strike="noStrike">
              <a:solidFill>
                <a:srgbClr val="fecd76"/>
              </a:solidFill>
              <a:latin typeface="Arial Rounded MT Bol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c1c1c"/>
            </a:outerShdw>
          </a:effectLst>
        </p:spPr>
        <p:txBody>
          <a:bodyPr lIns="90000" rIns="90000" tIns="46800" bIns="46800" anchor="ctr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 Rounded MT Bold"/>
              </a:rPr>
              <a:t>‘</a:t>
            </a:r>
            <a:r>
              <a:rPr b="1" lang="en-US" sz="3200" spc="-1" strike="noStrike">
                <a:solidFill>
                  <a:srgbClr val="800080"/>
                </a:solidFill>
                <a:latin typeface="Arial Rounded MT Bold"/>
              </a:rPr>
              <a:t>cause when we see You,</a:t>
            </a:r>
            <a:endParaRPr b="0" lang="en-US" sz="3200" spc="-1" strike="noStrike">
              <a:solidFill>
                <a:srgbClr val="fecd76"/>
              </a:solidFill>
              <a:latin typeface="Arial Rounded MT Bold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 Rounded MT Bold"/>
              </a:rPr>
              <a:t>We find strength to face the day.</a:t>
            </a:r>
            <a:endParaRPr b="0" lang="en-US" sz="3200" spc="-1" strike="noStrike">
              <a:solidFill>
                <a:srgbClr val="fecd76"/>
              </a:solidFill>
              <a:latin typeface="Arial Rounded MT Bold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cd76"/>
              </a:solidFill>
              <a:latin typeface="Arial Rounded MT Bold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 Rounded MT Bold"/>
              </a:rPr>
              <a:t>And in Your presence,</a:t>
            </a:r>
            <a:endParaRPr b="0" lang="en-US" sz="3200" spc="-1" strike="noStrike">
              <a:solidFill>
                <a:srgbClr val="fecd76"/>
              </a:solidFill>
              <a:latin typeface="Arial Rounded MT Bold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 Rounded MT Bold"/>
              </a:rPr>
              <a:t>All our fears are washed away.</a:t>
            </a:r>
            <a:endParaRPr b="0" lang="en-US" sz="3200" spc="-1" strike="noStrike">
              <a:solidFill>
                <a:srgbClr val="fecd76"/>
              </a:solidFill>
              <a:latin typeface="Arial Rounded MT Bold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 Rounded MT Bold"/>
              </a:rPr>
              <a:t>Washed away.</a:t>
            </a:r>
            <a:endParaRPr b="0" lang="en-US" sz="3200" spc="-1" strike="noStrike">
              <a:solidFill>
                <a:srgbClr val="fecd76"/>
              </a:solidFill>
              <a:latin typeface="Arial Rounded MT Bold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c1c1c"/>
            </a:outerShdw>
          </a:effectLst>
        </p:spPr>
        <p:txBody>
          <a:bodyPr lIns="90000" rIns="90000" tIns="46800" bIns="46800" anchor="ctr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 Rounded MT Bold"/>
              </a:rPr>
              <a:t>Hosanna, Hosanna!</a:t>
            </a:r>
            <a:endParaRPr b="0" lang="en-US" sz="3200" spc="-1" strike="noStrike">
              <a:solidFill>
                <a:srgbClr val="fecd76"/>
              </a:solidFill>
              <a:latin typeface="Arial Rounded MT Bold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 Rounded MT Bold"/>
              </a:rPr>
              <a:t>You are the God who saves us</a:t>
            </a:r>
            <a:endParaRPr b="0" lang="en-US" sz="3200" spc="-1" strike="noStrike">
              <a:solidFill>
                <a:srgbClr val="fecd76"/>
              </a:solidFill>
              <a:latin typeface="Arial Rounded MT Bold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 Rounded MT Bold"/>
              </a:rPr>
              <a:t>Worthy of all our praises.</a:t>
            </a:r>
            <a:endParaRPr b="0" lang="en-US" sz="3200" spc="-1" strike="noStrike">
              <a:solidFill>
                <a:srgbClr val="fecd76"/>
              </a:solidFill>
              <a:latin typeface="Arial Rounded MT Bold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cd76"/>
              </a:solidFill>
              <a:latin typeface="Arial Rounded MT Bold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 Rounded MT Bold"/>
              </a:rPr>
              <a:t>Hosanna, Hosanna!</a:t>
            </a:r>
            <a:endParaRPr b="0" lang="en-US" sz="3200" spc="-1" strike="noStrike">
              <a:solidFill>
                <a:srgbClr val="fecd76"/>
              </a:solidFill>
              <a:latin typeface="Arial Rounded MT Bold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 Rounded MT Bold"/>
              </a:rPr>
              <a:t>Come have Your way among us.</a:t>
            </a:r>
            <a:endParaRPr b="0" lang="en-US" sz="3200" spc="-1" strike="noStrike">
              <a:solidFill>
                <a:srgbClr val="fecd76"/>
              </a:solidFill>
              <a:latin typeface="Arial Rounded MT Bold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 Rounded MT Bold"/>
              </a:rPr>
              <a:t>We welcome you here, Lord Jesus.</a:t>
            </a:r>
            <a:endParaRPr b="0" lang="en-US" sz="3200" spc="-1" strike="noStrike">
              <a:solidFill>
                <a:srgbClr val="fecd76"/>
              </a:solidFill>
              <a:latin typeface="Arial Rounded MT Bold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5T19:28:32Z</dcterms:created>
  <dc:creator>Peter Rivezzo</dc:creator>
  <dc:description/>
  <dc:language>en-US</dc:language>
  <cp:lastModifiedBy>Peter Rivezzo</cp:lastModifiedBy>
  <dcterms:modified xsi:type="dcterms:W3CDTF">2010-03-05T19:28:32Z</dcterms:modified>
  <cp:revision>1</cp:revision>
  <dc:subject/>
  <dc:title>Slide 1</dc:title>
</cp:coreProperties>
</file>